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D4CC-F8BB-4B00-A213-467F82FB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4718-8AD1-4594-A836-4E85B64C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4D95-0AC6-4C16-AD84-3BC085A6F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1647-4B02-4069-A6A1-CB72534BA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9B46-3B2E-4D82-ACF5-B1495E96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6681-D91D-456D-AA84-FF7822F3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4A17-3CC0-425E-AB67-A10A6E1A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B64C-3B15-4416-B6CD-F769FBBF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DD9D-0D6F-46CD-B040-E5FE85AF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06D1-4BFB-48B3-9640-FDB34133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2EB8-4910-4515-B095-DC752456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8644-8004-4723-A0ED-C4324895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78B3-3326-42D3-B9F9-3333B6AF5F6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6266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6000" spc="-1" strike="noStrike">
                <a:solidFill>
                  <a:srgbClr val="ffffff"/>
                </a:solidFill>
                <a:latin typeface="Arial"/>
              </a:rPr>
              <a:t>WELCOME</a:t>
            </a:r>
            <a:r>
              <a:rPr b="1" lang="es-UY" sz="4800" spc="-1" strike="noStrike">
                <a:solidFill>
                  <a:srgbClr val="ffffff"/>
                </a:solidFill>
                <a:latin typeface="Arial"/>
              </a:rPr>
              <a:t>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7"/>
          <p:cNvSpPr/>
          <p:nvPr/>
        </p:nvSpPr>
        <p:spPr>
          <a:xfrm>
            <a:off x="1619280" y="1773360"/>
            <a:ext cx="5616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LEVEL 1- Masip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Teacher: Sohnea Mari Lac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http://t1.gstatic.com/images?q=tbn:ANd9GcRMYHidrD_UqjcQ-USsdte2UvfsZ4Fnz0Cr62D0jqB8zLxWY5qWJg"/>
          <p:cNvPicPr/>
          <p:nvPr/>
        </p:nvPicPr>
        <p:blipFill>
          <a:blip r:embed="rId1"/>
          <a:stretch/>
        </p:blipFill>
        <p:spPr>
          <a:xfrm rot="18916200">
            <a:off x="4785840" y="1287360"/>
            <a:ext cx="4378320" cy="1743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To have the knowledge about the basic Language, Math, and 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To enhance their cognitive sk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To share their learnings in th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t3.gstatic.com/images?q=tbn:ANd9GcRmXlRX6MHzLZJ2rgUvyBGFUf20dxNn-7E-y-0Qck5a3xizdQV1VQ"/>
          <p:cNvPicPr/>
          <p:nvPr/>
        </p:nvPicPr>
        <p:blipFill>
          <a:blip r:embed="rId1"/>
          <a:stretch/>
        </p:blipFill>
        <p:spPr>
          <a:xfrm rot="1831200">
            <a:off x="5435280" y="1576080"/>
            <a:ext cx="2736720" cy="4073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Alphab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20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Use of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20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20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Sh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t0.gstatic.com/images?q=tbn:ANd9GcTWyGcQRMM2HbfDdKxhfTTarXEoJ9VsYKwuzBbDZ0zltCb41wUf"/>
          <p:cNvPicPr/>
          <p:nvPr/>
        </p:nvPicPr>
        <p:blipFill>
          <a:blip r:embed="rId1"/>
          <a:stretch/>
        </p:blipFill>
        <p:spPr>
          <a:xfrm rot="3213600">
            <a:off x="-116640" y="3750120"/>
            <a:ext cx="3862440" cy="287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http://t0.gstatic.com/images?q=tbn:ANd9GcSkIJAR0drYEjPmolk95kDdLh1JUw4bJ-BbCFkYAv_UJExFN0N7"/>
          <p:cNvPicPr/>
          <p:nvPr/>
        </p:nvPicPr>
        <p:blipFill>
          <a:blip r:embed="rId2"/>
          <a:stretch/>
        </p:blipFill>
        <p:spPr>
          <a:xfrm rot="1954200">
            <a:off x="6443280" y="4653000"/>
            <a:ext cx="2543040" cy="1800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Counting from 1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20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Sets and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20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Addition and sub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http://t1.gstatic.com/images?q=tbn:ANd9GcRlHJqVislm1_pkqPb_KfYQqkh-nanwQ0FENMrMTlFPTHvwP9kRgA"/>
          <p:cNvPicPr/>
          <p:nvPr/>
        </p:nvPicPr>
        <p:blipFill>
          <a:blip r:embed="rId3"/>
          <a:stretch/>
        </p:blipFill>
        <p:spPr>
          <a:xfrm rot="777000">
            <a:off x="6012000" y="415440"/>
            <a:ext cx="2857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250" autoRev="1" fill="remov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8" dur="250" autoRev="1" fill="remov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9" dur="250" autoRev="1" fill="remov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250" autoRev="1" fill="remov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4" dur="250" autoRev="1" fill="remov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" dur="250" autoRev="1" fill="remov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250" autoRev="1" fill="remove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0" dur="250" autoRev="1" fill="remove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1" dur="250" autoRev="1" fill="remove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http://t3.gstatic.com/images?q=tbn:ANd9GcRZJ2n1xmdXwy8ZGVTa0MLdFfwrkaXRLKpJa6rzPgS-TZCPaQYn"/>
          <p:cNvPicPr/>
          <p:nvPr/>
        </p:nvPicPr>
        <p:blipFill>
          <a:blip r:embed="rId1"/>
          <a:stretch/>
        </p:blipFill>
        <p:spPr>
          <a:xfrm rot="2656200">
            <a:off x="23400" y="2452680"/>
            <a:ext cx="2892600" cy="27766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Finger pa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20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Coloring the sh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20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Dr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8" dur="indefinite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2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t3.gstatic.com/images?q=tbn:ANd9GcTp46OeQRDAvBc_yXe_m6IQAYx0q4aw1GSBMJJUAOhYEHOv9_n0dA"/>
          <p:cNvPicPr/>
          <p:nvPr/>
        </p:nvPicPr>
        <p:blipFill>
          <a:blip r:embed="rId1"/>
          <a:stretch/>
        </p:blipFill>
        <p:spPr>
          <a:xfrm rot="2137800">
            <a:off x="576000" y="3946680"/>
            <a:ext cx="3263760" cy="21636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2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“ 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The Child making use of all that he finds around him, shapes himself for the futu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Maria Montessori”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http://www.ehow.com/preschool-language-developmen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http://www.ehow.com/how_7711772_teach-addition-subtraction-preschooler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http://www.kidsparkz.com/number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http://www.ehow.com/list_5794920_finger-painting-ideas-preschooler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Jonathan</cp:lastModifiedBy>
  <dcterms:modified xsi:type="dcterms:W3CDTF">2012-09-30T13:25:06Z</dcterms:modified>
  <cp:revision>772</cp:revision>
  <dc:subject/>
  <dc:title>Diapositiva 1</dc:title>
</cp:coreProperties>
</file>